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677-45DB-43F4-9A8D-6989CFF5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AE8-EFBC-4C1A-ABEE-3A7FAA48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7CF-F4F1-4D30-A57B-5E6EB9C7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504-3643-482C-870A-AFB733DF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950-0AC2-4CD0-82E3-AEF90296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800-E91D-44FC-84C9-F998D659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DA3-454F-4D86-872A-80769A91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4F4-60CE-4C65-A2C9-97546A67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0BC-A2CE-4E90-9ABA-7EEB08C3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209-7422-415A-BB61-A8C8D304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4D6-2D3D-4EEA-B2B2-ED02F918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0D9-D2A1-4772-B702-46D360ED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2D64-2EE9-49EC-8CBA-FDCB52733D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Historical Setting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590920"/>
            <a:ext cx="6172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rs use important details and information to create a historical setting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e setting is very important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o historical fiction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Use specific and accurate information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riters thoroughly describe homes, objects, businesses, lifestyles, jobs or political events.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Readers can learn about the way life was during the time period.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…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“A Second Beginning”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at types of things did the author describe that helped us learn about life during the Depression?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 the historical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setting in your story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Make a chart in your notebook of things you might want to describe in the setting of your story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Make sure they are things that are accurate for the time period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Be prepared to share at the end of the workshop.</a:t>
            </a: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14:15Z</dcterms:created>
  <dc:creator>AAPS</dc:creator>
  <dc:description/>
  <dc:language>en-US</dc:language>
  <cp:lastModifiedBy>Carrie Dworkin</cp:lastModifiedBy>
  <dcterms:modified xsi:type="dcterms:W3CDTF">2005-08-16T21:24:09Z</dcterms:modified>
  <cp:revision>6</cp:revision>
  <dc:subject/>
  <dc:title>Historical Setting </dc:title>
</cp:coreProperties>
</file>